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B3A-698A-4DFD-8BCC-88BC294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39A-9DE9-4734-8B3B-838720D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568-A5D5-446F-966F-88F61D5F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074-7DD5-4019-B8FF-B1E845AA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868-A880-46D2-AF24-8531D0A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C27-EB68-4C7A-AA9E-B91F1DB3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7AA-121C-4AE3-BC05-BDA1748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0AF-583A-4E25-BB6B-DE0E566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8CD-2AF9-4299-8062-3670D64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878-2144-4335-A678-3EA1338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71C-5A6C-4800-B0F1-46BDFAD8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08E-6635-496D-B849-4F8F7C2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250-F92D-4DD3-902F-9A6DD00A6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b_sphere1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308320" y="487440"/>
            <a:ext cx="4527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_x000b_sphere8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7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e_Picture 10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610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851240" y="479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0e_Picture 11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152280"/>
            <a:ext cx="495144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7622640" y="457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0e_Picture 12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533520" y="509760"/>
            <a:ext cx="822960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545960" y="4572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0e_spheres 1a.jp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_x000e_spheres 1b.jp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1143000" y="685800"/>
            <a:ext cx="76201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_x000b_sphere2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672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7850520" y="4795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_x000b_sphere3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90536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850520" y="4795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b_sphere4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b_sphere5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152280"/>
            <a:ext cx="4970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x000b_sphere6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90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0b_sphere7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4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0:53:29Z</dcterms:created>
  <dc:creator>Tim McCollum</dc:creator>
  <dc:description/>
  <dc:language>en-US</dc:language>
  <cp:lastModifiedBy>kandy.powers Powers</cp:lastModifiedBy>
  <dcterms:modified xsi:type="dcterms:W3CDTF">2012-02-04T14:13:32Z</dcterms:modified>
  <cp:revision>3</cp:revision>
  <dc:subject/>
  <dc:title>PowerPoint Presentation</dc:title>
</cp:coreProperties>
</file>